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723A-0774-4C27-948D-82640D583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74F1-993A-46A7-A67E-062690B88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C1F0-7FDE-40C8-B411-CBBB3F927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9D3A-3590-4FB5-B1B4-A42498C27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04FB-172B-47CB-A8E2-BB11BE4E5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0C1E-6107-4F72-9FEB-57C4C0D38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242F-7075-46F7-B1ED-51D95E47A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F7E2-AE44-4244-B136-4268D4841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A8FA-F1B8-4D7C-8EAD-A8F140E27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12DE-C3B7-4FB2-8A68-88B83F11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0E4E-6BE7-412C-8070-74B86091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383E-94D0-4572-BD52-FA8762C8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C5C0D-1A73-4F00-B50D-A2CD3A97DA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0104891EainVAqxUG_ph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0" y="0"/>
            <a:ext cx="6858000" cy="78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cc99"/>
                </a:solidFill>
                <a:latin typeface="Arabic Transparent"/>
                <a:cs typeface="Times New Roman (Arabic)"/>
              </a:rPr>
              <a:t>من غيرك في ذي الحياة   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cc99"/>
                </a:solidFill>
                <a:latin typeface="Arabic Transparent"/>
                <a:cs typeface="Times New Roman (Arabic)"/>
              </a:rPr>
              <a:t>يا ربُّ يبقى أو يدوم (</a:t>
            </a:r>
            <a:r>
              <a:rPr b="1" lang="ar-SA" sz="3800" spc="-1" strike="noStrike">
                <a:solidFill>
                  <a:srgbClr val="ffcc99"/>
                </a:solidFill>
                <a:latin typeface="Arabic Transparent"/>
                <a:ea typeface="Times New Roman (Arabic)"/>
              </a:rPr>
              <a:t>2</a:t>
            </a:r>
            <a:r>
              <a:rPr b="1" lang="ar-SA" sz="3800" spc="-1" strike="noStrike">
                <a:solidFill>
                  <a:srgbClr val="ffcc99"/>
                </a:solidFill>
                <a:latin typeface="Arabic Transparent"/>
                <a:ea typeface="Times New Roman (Arabic)"/>
              </a:rPr>
              <a:t>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cc99"/>
                </a:solidFill>
                <a:latin typeface="Arabic Transparent"/>
                <a:cs typeface="Times New Roman (Arabic)"/>
              </a:rPr>
              <a:t>من غيرك يُعطي العزاء 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cc99"/>
                </a:solidFill>
                <a:latin typeface="Arabic Transparent"/>
                <a:cs typeface="Times New Roman (Arabic)"/>
              </a:rPr>
              <a:t>أيضاً شفاءً للهموم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cc99"/>
                </a:solidFill>
                <a:latin typeface="Arabic Transparent"/>
                <a:cs typeface="Arabic Transparent"/>
              </a:rPr>
              <a:t>من غيرك يا منقذي        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cc99"/>
                </a:solidFill>
                <a:latin typeface="Arabic Transparent"/>
                <a:cs typeface="Arabic Transparent"/>
              </a:rPr>
              <a:t>ربي رجائي سيدي (</a:t>
            </a:r>
            <a:r>
              <a:rPr b="1" lang="ar-SA" sz="3800" spc="-1" strike="noStrike">
                <a:solidFill>
                  <a:srgbClr val="ffcc99"/>
                </a:solidFill>
                <a:latin typeface="Arabic Transparent"/>
                <a:ea typeface="Arabic Transparent"/>
              </a:rPr>
              <a:t>2</a:t>
            </a:r>
            <a:r>
              <a:rPr b="1" lang="ar-SA" sz="3800" spc="-1" strike="noStrike">
                <a:solidFill>
                  <a:srgbClr val="ffcc99"/>
                </a:solidFill>
                <a:latin typeface="Arabic Transparent"/>
                <a:ea typeface="Arabic Transparent"/>
              </a:rPr>
              <a:t>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cc99"/>
                </a:solidFill>
                <a:latin typeface="Times New Roman"/>
                <a:cs typeface="Times New Roman (Arabic)"/>
              </a:rPr>
              <a:t>يبقى وأنت لي الصديق      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cc99"/>
                </a:solidFill>
                <a:latin typeface="Times New Roman"/>
                <a:cs typeface="Times New Roman (Arabic)"/>
              </a:rPr>
              <a:t>أمسي ويومي وغدي</a:t>
            </a:r>
            <a:r>
              <a:rPr b="1" lang="ar-SA" sz="4000" spc="-1" strike="noStrike">
                <a:solidFill>
                  <a:srgbClr val="000000"/>
                </a:solidFill>
                <a:latin typeface="Arabic Transparent"/>
                <a:ea typeface="Times New Roman (Arabic)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31708879FlmVuqGpXX_ph" descr=""/>
          <p:cNvPicPr/>
          <p:nvPr/>
        </p:nvPicPr>
        <p:blipFill>
          <a:blip r:embed="rId1"/>
          <a:stretch/>
        </p:blipFill>
        <p:spPr>
          <a:xfrm>
            <a:off x="-533520" y="0"/>
            <a:ext cx="64771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715000" y="0"/>
            <a:ext cx="3429000" cy="10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ن غيرك يا خالقي          يسمع صوتي ويجيب (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2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ا عارفاً كل الأنين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ن غيرك يبقى قري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ن غيرك يا منقذي         ربي رجائي سيدي(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2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بقى وأنت لي الصديق       أمسي ويومي وغدي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2313207ziWiaDmYSk_ph" descr=""/>
          <p:cNvPicPr/>
          <p:nvPr/>
        </p:nvPicPr>
        <p:blipFill>
          <a:blip r:embed="rId1"/>
          <a:stretch/>
        </p:blipFill>
        <p:spPr>
          <a:xfrm>
            <a:off x="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952880" y="533520"/>
            <a:ext cx="4191120" cy="80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من غيرك ربي يسوع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يشفي جروحي يا طبيب 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(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2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يا فاحصاً عمق الضلوع      مسيحي يا أغلى حبيب</a:t>
            </a:r>
            <a:r>
              <a:rPr b="0" lang="ar-SA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من غيرك في ذي الحياة    يا ربُّ يبقى أو يدوم (</a:t>
            </a:r>
            <a:r>
              <a:rPr b="1" lang="ar-SA" sz="36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2</a:t>
            </a:r>
            <a:r>
              <a:rPr b="1" lang="ar-SA" sz="36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من غيرك يُعطي العزاء     أيضاً شفاءً للهموم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5:34:51Z</dcterms:created>
  <dc:creator>USER</dc:creator>
  <dc:description/>
  <dc:language>en-US</dc:language>
  <cp:lastModifiedBy>USER</cp:lastModifiedBy>
  <dcterms:modified xsi:type="dcterms:W3CDTF">2003-02-13T04:16:45Z</dcterms:modified>
  <cp:revision>4</cp:revision>
  <dc:subject/>
  <dc:title>PowerPoint Presentation</dc:title>
</cp:coreProperties>
</file>